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2EB-6BEA-4AEC-9F59-744370A5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32C-EA10-4A2B-8E7F-DEF90233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3AF-254C-4769-9BEB-1EF3E3AF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6A2-7924-4179-A753-72D1B14B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9EC-9C89-41D3-94C6-012B25C4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9DB-59B0-4DCC-BD73-5868F58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925-41E4-431C-9BCA-20BDB83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1CD-7AAD-4BCE-AAC0-57ABB06E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DA3-5B3F-4492-90ED-9E60357C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F08-BC40-4E0C-9348-4B061B2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FE4-0619-44CA-91F9-A9745DC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217-918C-445F-AB8C-460E3D0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EFA-C48C-4798-9A4D-617F88916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de.google.com/p/protobuf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cf-pcmdi.llnl.gov/trac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earch.microsoft.com/research/pubs/view.aspx?tr_id=860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Dataset fd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DatasetFactoryManager.op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Type.STATION, location, null, log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Collection fc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d.getPointFeatureCollection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.get(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onCollection timeSeriesCollection = (StationCollection) fc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FeatureCollection points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eriesCollection.flatte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atLonRect( new LatLonPointImpl(40.0, -105.0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LatLonPointImpl(42.0, -100.0)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DateRange(start, end)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ter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point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s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car.nc2.ft.PointFeature pointFeature = points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loc = pointFeature.getLocatio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obser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equests are in “coordinate spa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e what subset you want, then request “all at on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et is vir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 can (try to) optimize the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rators over result set” vs List or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set does not have to fit into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streaming data (don’t wait until you have it 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ex vs Coordinate Requ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57200" y="1600200"/>
            <a:ext cx="800100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tation, tim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data = temp.read(234,2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Metar.dods?temp[234][23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581280"/>
            <a:ext cx="8001000" cy="1797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ncss/Metar.nc?var=temp&amp;time=2008-10-28T12:00:00Z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on=KMD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emp FROM metar WHERE metar.time= “2008-10-28T12:00:00Z” AND metar.station= “KMDR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data = temp.read(“2008-10-28T12:00:00Z”, “KMDR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50640" y="29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 vs Ragg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57200" y="1600200"/>
            <a:ext cx="8001000" cy="3014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ampl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tation_index(sampl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ample.len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ion_index(i) == KMDR_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= read(“http:/server/Metar.dods?temp[i]”); // B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ample.len; i++) 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ion_index(i) == KMDR_inde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List.add(i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server/Metar.dods?temp[2,3,5,78,90,123,456,789] // BE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57200" y="5181480"/>
            <a:ext cx="80010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erver/ncss/Metar.nc?var=temp&amp;time=all&amp;station=KMDR // MO BET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736440" y="4648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xed access considered harmf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olling data arch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deal with constantly changing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a contract with the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an you break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to reconcile with HTTP/OPeNDAP as a  stateless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S is broken (Shhhh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43000" y="2362320"/>
            <a:ext cx="6705720" cy="824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emp(sample=23874387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time(sample=23874387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units= “secs since 2008-10-28T12:00:00Z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go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ed access ok for local, static, “small”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eed new data access paradig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large, changing, remote dataset coll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s in Coordinate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y entire subset at once – aka “set at a tim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parallelism, opt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DDS Data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533520" y="3581280"/>
            <a:ext cx="8001000" cy="1798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atureCollection featureType="FMRC” path="fmrc/NCEP/GFS/CONUS_80km"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llection spec="/data/NCEP/GFS_CONUS_80km_#yyyyMMdd_HHmm#.grib1“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pdate startup="true" rescan="0 5 3 * * ? *" trigger="allow"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toDataset choice="Penultimate" change="0 2 3 * * ? *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mrcConfig datasetTypes="Best Files Runs ConstantForecasts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eatureCollectio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Model Run Collection (2D ti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t of 1D Grid datase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in the TDS Configuration catalo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fmrc.png"/>
          <p:cNvPicPr/>
          <p:nvPr/>
        </p:nvPicPr>
        <p:blipFill>
          <a:blip r:embed="rId1"/>
          <a:stretch/>
        </p:blipFill>
        <p:spPr>
          <a:xfrm>
            <a:off x="-42840" y="457200"/>
            <a:ext cx="9186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d for TDS 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rvices to ex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indexed data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ok into Point Feature API on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DS Point Feature Colle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33520" y="2819520"/>
            <a:ext cx="7772400" cy="15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eatureCollection featureType=“STATION” path="nws/metar/ncdecoded "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llection spec="/data/metar/Surface_METAR_#yyyyMMdd_HHmm#.nc$“/&gt;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pdate startup="true" rescan="0 5 3 * * ? *" trigger="allow"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toDataset choice="Penultimate" change="0 2 3 * * ? *" /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eatureCollectio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TimeSer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se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la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lon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32 elev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32 _id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quenc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visibility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wind_gus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dew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64 time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sl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wind_speed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ax_sustained_wind_speed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min_temp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32 precip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time_series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location;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gsod_time_series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CDF-CF pro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mRem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level (nested) DAP 2 Sequ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gged Arrays with coordinate subse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ndles timeSeries and profile FeatureTy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s a unique id for each fea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es lat / lon / z / time coordin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ndle longitude wrapping? (y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variables only in inner sequence, must be flo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ing of CE on data variables not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eNDAP spec requ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does client know what if CE allowed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PPER Conventions -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kely easy to hook up to CDM Station/Profile Feature Collection AP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s to be generalized / clar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handle arbitrary datas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support the other Point Feature Typ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ot sure who would be in change of standard 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 set has fixed layout – makes streaming h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ccessible through NetCDF API – who are the client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P 2 cant transport NetCDF-4 / CDM data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ared Dimensions, Groups, enums, longs, chars, et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AP 4 where are you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n’t have a general coordinate system mechanism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CDF Subset Service (4.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riment with REST style web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to subset the dataset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at/lon bounding bo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ime and vertical coordinate ran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st of Variab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idd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put is NetCDF –CF fi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ariation of WCS (simplified request protocol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id as Point Data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tract vertical profile, time series from one point in model dat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utput: NetCDF-CF, XML, CS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ied to use for point data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tCDF cant be stream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Quite slow for large data colle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cstream (4.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tCDF files (almost always) have to be written, then copied to net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umes random access, not str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 optimized” :  data layout is know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stream explores what “streaming netcdf” might look lik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-optimized”: append on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icient conversion to netCDF files on the cl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stream data model == CDM data mod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nary encoding using Google's 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otobu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nary object serialization, cross language, transport nuetral, ext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fast: some tests show &gt;10x OPeND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ave experimental versions in CDM and TDS since 4.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Remote web services (4.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on to Netcdf Subset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Feature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cstream for the OTW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DM, TDS since version 4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add FeatureCollection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cdmremoteForm.png"/>
          <p:cNvPicPr/>
          <p:nvPr/>
        </p:nvPicPr>
        <p:blipFill>
          <a:blip r:embed="rId1"/>
          <a:stretch/>
        </p:blipFill>
        <p:spPr>
          <a:xfrm>
            <a:off x="685800" y="-609480"/>
            <a:ext cx="8042400" cy="76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04920" y="1143000"/>
            <a:ext cx="82296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cessing Point Feature Coll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523880" y="5105520"/>
            <a:ext cx="1828800" cy="1066680"/>
          </a:xfrm>
          <a:prstGeom prst="flowChartMagneticDisk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990720" y="1676520"/>
            <a:ext cx="3047760" cy="32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AutoShape 25"/>
          <p:cNvCxnSpPr>
            <a:stCxn id="135" idx="2"/>
            <a:endCxn id="132" idx="1"/>
          </p:cNvCxnSpPr>
          <p:nvPr/>
        </p:nvCxnSpPr>
        <p:spPr>
          <a:xfrm flipH="1">
            <a:off x="2437560" y="4147920"/>
            <a:ext cx="802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Text Box 11"/>
          <p:cNvSpPr/>
          <p:nvPr/>
        </p:nvSpPr>
        <p:spPr>
          <a:xfrm>
            <a:off x="1523880" y="3429000"/>
            <a:ext cx="193068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295280" y="3886200"/>
            <a:ext cx="2444760" cy="26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 Access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AutoShape 14"/>
          <p:cNvCxnSpPr>
            <a:stCxn id="138" idx="2"/>
            <a:endCxn id="136" idx="0"/>
          </p:cNvCxnSpPr>
          <p:nvPr/>
        </p:nvCxnSpPr>
        <p:spPr>
          <a:xfrm>
            <a:off x="2437200" y="3205080"/>
            <a:ext cx="514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15"/>
          <p:cNvCxnSpPr>
            <a:stCxn id="136" idx="2"/>
            <a:endCxn id="135" idx="0"/>
          </p:cNvCxnSpPr>
          <p:nvPr/>
        </p:nvCxnSpPr>
        <p:spPr>
          <a:xfrm>
            <a:off x="2489040" y="3704760"/>
            <a:ext cx="29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Box 73"/>
          <p:cNvSpPr/>
          <p:nvPr/>
        </p:nvSpPr>
        <p:spPr>
          <a:xfrm>
            <a:off x="4426200" y="2666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dmRemo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5248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16"/>
          <p:cNvGrpSpPr/>
          <p:nvPr/>
        </p:nvGrpSpPr>
        <p:grpSpPr>
          <a:xfrm>
            <a:off x="5791320" y="1676520"/>
            <a:ext cx="2514600" cy="3352680"/>
            <a:chOff x="5791320" y="1676520"/>
            <a:chExt cx="2514600" cy="3352680"/>
          </a:xfrm>
        </p:grpSpPr>
        <p:sp>
          <p:nvSpPr>
            <p:cNvPr id="142" name="Text Box 2"/>
            <p:cNvSpPr/>
            <p:nvPr/>
          </p:nvSpPr>
          <p:spPr>
            <a:xfrm>
              <a:off x="5791320" y="1676520"/>
              <a:ext cx="2514600" cy="335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ava Cli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59"/>
            <p:cNvSpPr/>
            <p:nvPr/>
          </p:nvSpPr>
          <p:spPr>
            <a:xfrm>
              <a:off x="6172200" y="3200400"/>
              <a:ext cx="1371600" cy="1191240"/>
            </a:xfrm>
            <a:prstGeom prst="rect">
              <a:avLst/>
            </a:prstGeom>
            <a:solidFill>
              <a:srgbClr val="fcd5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3"/>
            <p:cNvSpPr/>
            <p:nvPr/>
          </p:nvSpPr>
          <p:spPr>
            <a:xfrm>
              <a:off x="6172200" y="2743200"/>
              <a:ext cx="137160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DM Point Feature AP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0"/>
          <p:cNvGrpSpPr/>
          <p:nvPr/>
        </p:nvGrpSpPr>
        <p:grpSpPr>
          <a:xfrm>
            <a:off x="3123720" y="2209680"/>
            <a:ext cx="5563080" cy="3353040"/>
            <a:chOff x="3123720" y="2209680"/>
            <a:chExt cx="5563080" cy="3353040"/>
          </a:xfrm>
        </p:grpSpPr>
        <p:grpSp>
          <p:nvGrpSpPr>
            <p:cNvPr id="146" name="Group 17"/>
            <p:cNvGrpSpPr/>
            <p:nvPr/>
          </p:nvGrpSpPr>
          <p:grpSpPr>
            <a:xfrm>
              <a:off x="6172200" y="2209680"/>
              <a:ext cx="2514600" cy="3353040"/>
              <a:chOff x="6172200" y="2209680"/>
              <a:chExt cx="2514600" cy="3353040"/>
            </a:xfrm>
          </p:grpSpPr>
          <p:sp>
            <p:nvSpPr>
              <p:cNvPr id="147" name="Text Box 2"/>
              <p:cNvSpPr/>
              <p:nvPr/>
            </p:nvSpPr>
            <p:spPr>
              <a:xfrm>
                <a:off x="6172200" y="2209680"/>
                <a:ext cx="2514600" cy="335304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C Clien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Box 24"/>
              <p:cNvSpPr/>
              <p:nvPr/>
            </p:nvSpPr>
            <p:spPr>
              <a:xfrm>
                <a:off x="6553080" y="3733920"/>
                <a:ext cx="1371600" cy="1191240"/>
              </a:xfrm>
              <a:prstGeom prst="rect">
                <a:avLst/>
              </a:prstGeom>
              <a:solidFill>
                <a:srgbClr val="fcd5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 Box 3"/>
              <p:cNvSpPr/>
              <p:nvPr/>
            </p:nvSpPr>
            <p:spPr>
              <a:xfrm>
                <a:off x="6553080" y="3276360"/>
                <a:ext cx="1371600" cy="45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CDM Point Feature API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50" name="AutoShape 19"/>
            <p:cNvCxnSpPr>
              <a:endCxn id="149" idx="1"/>
            </p:cNvCxnSpPr>
            <p:nvPr/>
          </p:nvCxnSpPr>
          <p:spPr>
            <a:xfrm>
              <a:off x="3123720" y="3124080"/>
              <a:ext cx="3429720" cy="38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51" name="AutoShape 19"/>
          <p:cNvCxnSpPr>
            <a:stCxn id="138" idx="3"/>
            <a:endCxn id="144" idx="1"/>
          </p:cNvCxnSpPr>
          <p:nvPr/>
        </p:nvCxnSpPr>
        <p:spPr>
          <a:xfrm>
            <a:off x="3123720" y="2972880"/>
            <a:ext cx="3048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ility: CdmRemote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ghtweight server for CDM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ero config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file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che expensive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 and C cli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non-Java applications access to CDM st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rdinate space que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rtual data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04920" y="1143000"/>
            <a:ext cx="82296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 library – enable other langu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886200" y="5029200"/>
            <a:ext cx="1828800" cy="1066680"/>
          </a:xfrm>
          <a:prstGeom prst="flowChartMagneticDisk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90720" y="1676520"/>
            <a:ext cx="3047760" cy="32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dmRemote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AutoShape 25"/>
          <p:cNvCxnSpPr>
            <a:stCxn id="159" idx="2"/>
            <a:endCxn id="156" idx="2"/>
          </p:cNvCxnSpPr>
          <p:nvPr/>
        </p:nvCxnSpPr>
        <p:spPr>
          <a:xfrm>
            <a:off x="2516760" y="4147920"/>
            <a:ext cx="1369080" cy="14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 Box 11"/>
          <p:cNvSpPr/>
          <p:nvPr/>
        </p:nvSpPr>
        <p:spPr>
          <a:xfrm>
            <a:off x="1523880" y="3429000"/>
            <a:ext cx="193068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ordinate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295280" y="3886200"/>
            <a:ext cx="2444760" cy="261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Data Access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14"/>
          <p:cNvCxnSpPr>
            <a:stCxn id="162" idx="2"/>
            <a:endCxn id="160" idx="0"/>
          </p:cNvCxnSpPr>
          <p:nvPr/>
        </p:nvCxnSpPr>
        <p:spPr>
          <a:xfrm>
            <a:off x="2437200" y="3205080"/>
            <a:ext cx="514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5"/>
          <p:cNvCxnSpPr>
            <a:stCxn id="160" idx="2"/>
            <a:endCxn id="159" idx="0"/>
          </p:cNvCxnSpPr>
          <p:nvPr/>
        </p:nvCxnSpPr>
        <p:spPr>
          <a:xfrm>
            <a:off x="2489040" y="3704760"/>
            <a:ext cx="295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Text Box 2"/>
          <p:cNvSpPr/>
          <p:nvPr/>
        </p:nvSpPr>
        <p:spPr>
          <a:xfrm>
            <a:off x="5791320" y="2209680"/>
            <a:ext cx="2514600" cy="2743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 Cl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9"/>
          <p:cNvSpPr/>
          <p:nvPr/>
        </p:nvSpPr>
        <p:spPr>
          <a:xfrm>
            <a:off x="6172200" y="3200400"/>
            <a:ext cx="1371600" cy="1191240"/>
          </a:xfrm>
          <a:prstGeom prst="rect">
            <a:avLst/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3"/>
          <p:cNvSpPr/>
          <p:nvPr/>
        </p:nvSpPr>
        <p:spPr>
          <a:xfrm>
            <a:off x="4426200" y="2666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dmRemo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AutoShape 19"/>
          <p:cNvCxnSpPr>
            <a:stCxn id="162" idx="3"/>
            <a:endCxn id="168" idx="1"/>
          </p:cNvCxnSpPr>
          <p:nvPr/>
        </p:nvCxnSpPr>
        <p:spPr>
          <a:xfrm>
            <a:off x="3123720" y="2972880"/>
            <a:ext cx="3048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Text Box 3"/>
          <p:cNvSpPr/>
          <p:nvPr/>
        </p:nvSpPr>
        <p:spPr>
          <a:xfrm>
            <a:off x="175248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172200" y="2743200"/>
            <a:ext cx="13716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DM Point Feature A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AutoShape 25"/>
          <p:cNvCxnSpPr>
            <a:stCxn id="165" idx="2"/>
            <a:endCxn id="156" idx="4"/>
          </p:cNvCxnSpPr>
          <p:nvPr/>
        </p:nvCxnSpPr>
        <p:spPr>
          <a:xfrm flipH="1">
            <a:off x="5714280" y="4400640"/>
            <a:ext cx="114372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TextBox 26"/>
          <p:cNvSpPr/>
          <p:nvPr/>
        </p:nvSpPr>
        <p:spPr>
          <a:xfrm>
            <a:off x="5791320" y="1600200"/>
            <a:ext cx="2438280" cy="581400"/>
          </a:xfrm>
          <a:prstGeom prst="rect">
            <a:avLst/>
          </a:prstGeom>
          <a:solidFill>
            <a:srgbClr val="92d05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/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crete Sampling CF Conventions almost re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DM Point Feature API ready for tes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DS Point Feature Collections almost re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dmRemote / ncstr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catalog configuration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new APIs : what should they b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cli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data is evaluating new APIs in C using ncstream as IPC  to Java services in another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add Python to our list, as resources per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o other solutions, as resources per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F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de common “discrete sampling” data collections into NetCDF classic model / netCDF-3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al to CF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rete Sampling Geometr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hn Caron, Steve Hankin, Jonathan Gr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 pages, 2 years and count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sion 1 Real Soon Now (real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cf-pcmdi.llnl.gov/trac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: Can you say SQ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im Gray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“Scientific Data Management in the Coming Decade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hael Stonebraker: SciDB (http://scidb.org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y oriented data model – extends relational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able release in Jan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ng participating in this eff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1676520" y="1676520"/>
            <a:ext cx="6172200" cy="1828800"/>
          </a:xfrm>
          <a:prstGeom prst="rect">
            <a:avLst/>
          </a:prstGeom>
          <a:solidFill>
            <a:srgbClr val="ddd9c3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Data Access AP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ests in Coordinate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entire subset at once – aka “set at a tim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ow parallelism, optim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EDDS/CDM Developers Confer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vitation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w related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unch Open Source pro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ering Committ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oader than Uni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ll 2011 (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SS4G conference in Denver (Sep 12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GC Technical Committee / Boulder (Sep 1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Sampling Data en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guous Ragged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ed Ragged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Feature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easy / efficient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 Feature from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et the collection by space and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rete Sample Feature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oi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collection of data points with no connection in time and sp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imeSeri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data points at the same location, with vary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ajector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data points along a curve in time and sp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t of data points along a vertical li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imeSeries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ries of profiles at the same location, with varying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rajectoryProfi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a set of profiles which originate from points along a trajecto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D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a working implementation of the entire proposal in CDM 4.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minor changes not yet m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a: needs user tes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entirely happy with the API (complex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ed on “Nested Table” abstrac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on represen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rayStructure, Construct, Contiguous, LinkedList, MultidimInner, MultidimInner3D, MultidimInnerPsuedo, MultidimInnerPsuedo3D, MultidimStructure, NestedStructure, ParentId, ParentIndex, Singleton, Structure,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ML configuration possible – easy to add new data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Configurer Plu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MPAK 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IDL station (IRI/LDEO Climate Data Libra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son (NASA Ocean Surface Topography Mi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L Wind Prof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IS AC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IS surface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BDC (National Buoy Data Cent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CAR-RAF/nimb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LDN (National Lightning Data Networ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omi-S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data Observation Dataset Conven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267080" y="3124080"/>
            <a:ext cx="45720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Data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3"/>
          <p:cNvSpPr/>
          <p:nvPr/>
        </p:nvSpPr>
        <p:spPr>
          <a:xfrm>
            <a:off x="4267080" y="304920"/>
            <a:ext cx="16002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AutoShape 4"/>
          <p:cNvCxnSpPr>
            <a:stCxn id="56" idx="3"/>
            <a:endCxn id="58" idx="3"/>
          </p:cNvCxnSpPr>
          <p:nvPr/>
        </p:nvCxnSpPr>
        <p:spPr>
          <a:xfrm flipH="1">
            <a:off x="3733560" y="890280"/>
            <a:ext cx="7689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7"/>
          <p:cNvSpPr/>
          <p:nvPr/>
        </p:nvSpPr>
        <p:spPr>
          <a:xfrm>
            <a:off x="228600" y="1295280"/>
            <a:ext cx="3505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Feature A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095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60958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867280" y="1371600"/>
            <a:ext cx="28195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M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 Feature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562720" y="5562720"/>
            <a:ext cx="144756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8381880" y="51814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172200" y="5029200"/>
            <a:ext cx="281952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/O service provi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8153280" y="5562720"/>
            <a:ext cx="8384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AutoShape 25"/>
          <p:cNvCxnSpPr>
            <a:stCxn id="64" idx="2"/>
            <a:endCxn id="65" idx="1"/>
          </p:cNvCxnSpPr>
          <p:nvPr/>
        </p:nvCxnSpPr>
        <p:spPr>
          <a:xfrm flipH="1" rot="16200000">
            <a:off x="7426800" y="5559120"/>
            <a:ext cx="8802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27"/>
          <p:cNvCxnSpPr>
            <a:stCxn id="64" idx="2"/>
            <a:endCxn id="66" idx="1"/>
          </p:cNvCxnSpPr>
          <p:nvPr/>
        </p:nvCxnSpPr>
        <p:spPr>
          <a:xfrm flipH="1" rot="16200000">
            <a:off x="7693560" y="5292360"/>
            <a:ext cx="34668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Text Box 28"/>
          <p:cNvSpPr/>
          <p:nvPr/>
        </p:nvSpPr>
        <p:spPr>
          <a:xfrm>
            <a:off x="4267080" y="4343400"/>
            <a:ext cx="4800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76960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5486400" y="6095880"/>
            <a:ext cx="1295280" cy="368280"/>
          </a:xfrm>
          <a:prstGeom prst="rect">
            <a:avLst/>
          </a:prstGeom>
          <a:gradFill rotWithShape="0">
            <a:gsLst>
              <a:gs pos="0">
                <a:srgbClr val="76475e"/>
              </a:gs>
              <a:gs pos="50000">
                <a:srgbClr val="ff99cc"/>
              </a:gs>
              <a:gs pos="100000">
                <a:srgbClr val="76475e"/>
              </a:gs>
            </a:gsLst>
            <a:lin ang="5400000"/>
          </a:gra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CDF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1"/>
          <p:cNvSpPr/>
          <p:nvPr/>
        </p:nvSpPr>
        <p:spPr>
          <a:xfrm flipH="1">
            <a:off x="6781320" y="6324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2"/>
          <p:cNvSpPr/>
          <p:nvPr/>
        </p:nvSpPr>
        <p:spPr>
          <a:xfrm flipH="1">
            <a:off x="7010280" y="571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6629400" y="6324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5029200" y="3733920"/>
            <a:ext cx="236232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System 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533520" y="2133720"/>
            <a:ext cx="320040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type Ad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42"/>
          <p:cNvSpPr/>
          <p:nvPr/>
        </p:nvSpPr>
        <p:spPr>
          <a:xfrm>
            <a:off x="1981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3733920" y="23623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133720" y="2819520"/>
            <a:ext cx="99036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2209680" y="3581280"/>
            <a:ext cx="99072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MP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209680" y="4267080"/>
            <a:ext cx="10670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AutoShape 25"/>
          <p:cNvCxnSpPr/>
          <p:nvPr/>
        </p:nvCxnSpPr>
        <p:spPr>
          <a:xfrm rot="5400000">
            <a:off x="2840760" y="3101760"/>
            <a:ext cx="10994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27"/>
          <p:cNvCxnSpPr>
            <a:endCxn id="81" idx="3"/>
          </p:cNvCxnSpPr>
          <p:nvPr/>
        </p:nvCxnSpPr>
        <p:spPr>
          <a:xfrm rot="5400000">
            <a:off x="2421720" y="3368520"/>
            <a:ext cx="19375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Line 32"/>
          <p:cNvSpPr/>
          <p:nvPr/>
        </p:nvSpPr>
        <p:spPr>
          <a:xfrm flipH="1">
            <a:off x="3123720" y="2971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25146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2209680" y="4952880"/>
            <a:ext cx="106704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AutoShape 27"/>
          <p:cNvCxnSpPr/>
          <p:nvPr/>
        </p:nvCxnSpPr>
        <p:spPr>
          <a:xfrm rot="5400000">
            <a:off x="2574360" y="4206600"/>
            <a:ext cx="17089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Left Brace 80"/>
          <p:cNvSpPr/>
          <p:nvPr/>
        </p:nvSpPr>
        <p:spPr>
          <a:xfrm>
            <a:off x="1676520" y="2743200"/>
            <a:ext cx="304560" cy="2819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200 h 2819520"/>
              <a:gd name="textAreaBottom" fmla="*/ 277632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2"/>
                  <a:pt x="10800" y="1063"/>
                </a:cubicBezTo>
                <a:lnTo>
                  <a:pt x="10800" y="9800"/>
                </a:lnTo>
                <a:cubicBezTo>
                  <a:pt x="10800" y="10332"/>
                  <a:pt x="5400" y="10863"/>
                  <a:pt x="0" y="10863"/>
                </a:cubicBezTo>
                <a:cubicBezTo>
                  <a:pt x="5400" y="10863"/>
                  <a:pt x="10800" y="11395"/>
                  <a:pt x="10800" y="11926"/>
                </a:cubicBezTo>
                <a:lnTo>
                  <a:pt x="10800" y="20537"/>
                </a:lnTo>
                <a:cubicBezTo>
                  <a:pt x="10800" y="210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1"/>
          <p:cNvSpPr/>
          <p:nvPr/>
        </p:nvSpPr>
        <p:spPr>
          <a:xfrm>
            <a:off x="360" y="3657600"/>
            <a:ext cx="17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 Configu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g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PointFeatureTypes.png"/>
          <p:cNvPicPr/>
          <p:nvPr/>
        </p:nvPicPr>
        <p:blipFill>
          <a:blip r:embed="rId1"/>
          <a:stretch/>
        </p:blipFill>
        <p:spPr>
          <a:xfrm>
            <a:off x="-152280" y="-228600"/>
            <a:ext cx="9370800" cy="829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014240" y="152280"/>
            <a:ext cx="1895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M Point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4:30:36Z</dcterms:created>
  <dc:creator>caron</dc:creator>
  <dc:description/>
  <dc:language>en-US</dc:language>
  <cp:lastModifiedBy>Lewis McCulloch</cp:lastModifiedBy>
  <dcterms:modified xsi:type="dcterms:W3CDTF">2010-11-30T12:57:28Z</dcterms:modified>
  <cp:revision>43</cp:revision>
  <dc:subject/>
  <dc:title>Point Data</dc:title>
</cp:coreProperties>
</file>